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549-9D4F-45F1-9254-54C136FB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A74-D3ED-4F08-872F-6D334560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314-6DF8-446C-9A14-D0C16831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26C-7837-4E83-ACBC-CB6A2067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EC4-A5E0-479C-B0E5-A9FA478D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F0C1-45A8-4346-BA82-341CE33E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68A-997E-4DCF-835C-95EE4D14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18F-16D3-42DD-BC43-D016F4D9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54A-6866-48FA-A338-95F324B8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4CE-A80C-47C1-BB51-E255743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020-FA52-42CD-BA46-BC52ADD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1B6-C4A5-4EBC-9559-E37DAF31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2FDA-D973-4270-A318-A2D12912E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1247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-67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70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75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4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12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70" descr="Maxwell"/>
          <p:cNvPicPr/>
          <p:nvPr/>
        </p:nvPicPr>
        <p:blipFill>
          <a:blip r:embed="rId1"/>
          <a:stretch/>
        </p:blipFill>
        <p:spPr>
          <a:xfrm>
            <a:off x="6934320" y="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photo5" descr="Mary J. Blige "/>
          <p:cNvPicPr/>
          <p:nvPr/>
        </p:nvPicPr>
        <p:blipFill>
          <a:blip r:embed="rId2"/>
          <a:stretch/>
        </p:blipFill>
        <p:spPr>
          <a:xfrm>
            <a:off x="4572000" y="312408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1" name="newImage-1" descr=""/>
          <p:cNvPicPr/>
          <p:nvPr/>
        </p:nvPicPr>
        <p:blipFill>
          <a:blip r:embed="rId3"/>
          <a:stretch/>
        </p:blipFill>
        <p:spPr>
          <a:xfrm>
            <a:off x="0" y="3962520"/>
            <a:ext cx="377208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candykisseshitops1" descr="candykisseshitops1.jpg"/>
          <p:cNvPicPr/>
          <p:nvPr/>
        </p:nvPicPr>
        <p:blipFill>
          <a:blip r:embed="rId4"/>
          <a:stretch/>
        </p:blipFill>
        <p:spPr>
          <a:xfrm>
            <a:off x="0" y="0"/>
            <a:ext cx="4476600" cy="372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-1247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677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4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70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75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24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12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maz_print_img" descr="product image"/>
          <p:cNvPicPr/>
          <p:nvPr/>
        </p:nvPicPr>
        <p:blipFill>
          <a:blip r:embed="rId5"/>
          <a:stretch/>
        </p:blipFill>
        <p:spPr>
          <a:xfrm>
            <a:off x="4267080" y="0"/>
            <a:ext cx="2743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6:06:47Z</dcterms:created>
  <dc:creator>809277</dc:creator>
  <dc:description/>
  <dc:language>en-US</dc:language>
  <cp:lastModifiedBy>809277</cp:lastModifiedBy>
  <dcterms:modified xsi:type="dcterms:W3CDTF">2008-09-04T16:11:56Z</dcterms:modified>
  <cp:revision>1</cp:revision>
  <dc:subject/>
  <dc:title>Slide 1</dc:title>
</cp:coreProperties>
</file>